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11049000" cy="7239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1428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7596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24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91428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27596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44040" y="0"/>
            <a:ext cx="9574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1428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27596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224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1428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27596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CAB-1AFC-4777-89C6-5E32B07F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051-385E-4194-B8B4-9C15EF6E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AC0-3746-4379-BC1D-8250F3E2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9CF-6487-490C-BF14-6AD5033B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067-99A7-4320-869D-EEF7C7E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44040" y="0"/>
            <a:ext cx="9574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296-D0AF-4285-B9E3-A13F8AF6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CA3-C2F5-4962-8802-C279613F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2B6-73AB-4D76-908B-29BAFC5A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2CE-8D0D-4686-BA1E-00FC850C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B39-F869-4AFF-BEA7-EE15AFAD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65A-B95A-44C9-A49A-CDB74EED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1428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27596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5224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1428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27596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F55-E373-46E0-92FB-CC80A074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F778-1878-44CA-80EA-F3C44133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57AD-C58A-4520-9242-9924F8D0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407A-0F2A-484A-B255-2D08CC7A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064C-8520-4F63-B26B-77A83CEB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6A1E-D199-40E0-8B7A-144A06ED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44040" y="0"/>
            <a:ext cx="9574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26E2-A9AF-43AD-BD5A-813A12B6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81D7-6892-4E6B-ADD6-EDCA261D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7BF9-89BE-4A90-BE23-77496E9E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C160-DECD-4BAE-8C70-D7FC038F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16F4-154A-4443-B40B-B16EA414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E26B-D6E5-4888-AEF3-518DB7E8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1428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27596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5224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1428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27596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2676-15DA-48C6-B457-C78272D9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44040" y="0"/>
            <a:ext cx="9574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9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8"/>
          <p:cNvSpPr/>
          <p:nvPr/>
        </p:nvSpPr>
        <p:spPr>
          <a:xfrm>
            <a:off x="6353280" y="2171880"/>
            <a:ext cx="423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20"/>
          <p:cNvGrpSpPr/>
          <p:nvPr/>
        </p:nvGrpSpPr>
        <p:grpSpPr>
          <a:xfrm>
            <a:off x="1486080" y="2338560"/>
            <a:ext cx="8076600" cy="3014640"/>
            <a:chOff x="1486080" y="2338560"/>
            <a:chExt cx="8076600" cy="3014640"/>
          </a:xfrm>
        </p:grpSpPr>
        <p:sp>
          <p:nvSpPr>
            <p:cNvPr id="39" name="Rectangle 21"/>
            <p:cNvSpPr/>
            <p:nvPr/>
          </p:nvSpPr>
          <p:spPr>
            <a:xfrm>
              <a:off x="1486080" y="2338560"/>
              <a:ext cx="8076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240" rIns="120240" tIns="60120" bIns="60120" anchor="t">
              <a:spAutoFit/>
            </a:bodyPr>
            <a:p>
              <a:pPr algn="ctr"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22"/>
            <p:cNvGrpSpPr/>
            <p:nvPr/>
          </p:nvGrpSpPr>
          <p:grpSpPr>
            <a:xfrm>
              <a:off x="1486080" y="2338560"/>
              <a:ext cx="3533400" cy="3014640"/>
              <a:chOff x="1486080" y="2338560"/>
              <a:chExt cx="3533400" cy="3014640"/>
            </a:xfrm>
          </p:grpSpPr>
          <p:sp>
            <p:nvSpPr>
              <p:cNvPr id="41" name="Rectangle 23"/>
              <p:cNvSpPr/>
              <p:nvPr/>
            </p:nvSpPr>
            <p:spPr>
              <a:xfrm>
                <a:off x="1486080" y="2338560"/>
                <a:ext cx="353340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Rectangle 24"/>
              <p:cNvSpPr/>
              <p:nvPr/>
            </p:nvSpPr>
            <p:spPr>
              <a:xfrm>
                <a:off x="1486080" y="2398680"/>
                <a:ext cx="3533400" cy="29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lang="en-US" sz="2600" spc="-1" strike="noStrike">
                    <a:solidFill>
                      <a:srgbClr val="336666"/>
                    </a:solidFill>
                    <a:latin typeface="Times New Roman"/>
                  </a:rPr>
                  <a:t>  </a:t>
                </a:r>
                <a:r>
                  <a:rPr b="0" lang="en-US" sz="13400" spc="-1" strike="noStrike">
                    <a:solidFill>
                      <a:srgbClr val="336666"/>
                    </a:solidFill>
                    <a:latin typeface="Times New Roman"/>
                  </a:rPr>
                  <a:t> </a:t>
                </a:r>
                <a:r>
                  <a:rPr b="0" lang="en-US" sz="2600" spc="-1" strike="noStrike">
                    <a:solidFill>
                      <a:srgbClr val="336666"/>
                    </a:solidFill>
                    <a:latin typeface="Times New Roman"/>
                  </a:rPr>
                  <a:t>                                    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25"/>
          <p:cNvGrpSpPr/>
          <p:nvPr/>
        </p:nvGrpSpPr>
        <p:grpSpPr>
          <a:xfrm>
            <a:off x="1486080" y="2338560"/>
            <a:ext cx="8076600" cy="3014640"/>
            <a:chOff x="1486080" y="2338560"/>
            <a:chExt cx="8076600" cy="3014640"/>
          </a:xfrm>
        </p:grpSpPr>
        <p:sp>
          <p:nvSpPr>
            <p:cNvPr id="44" name="Rectangle 26"/>
            <p:cNvSpPr/>
            <p:nvPr/>
          </p:nvSpPr>
          <p:spPr>
            <a:xfrm>
              <a:off x="1486080" y="2338560"/>
              <a:ext cx="8076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240" rIns="120240" tIns="60120" bIns="60120" anchor="t">
              <a:spAutoFit/>
            </a:bodyPr>
            <a:p>
              <a:pPr algn="ctr"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27"/>
            <p:cNvGrpSpPr/>
            <p:nvPr/>
          </p:nvGrpSpPr>
          <p:grpSpPr>
            <a:xfrm>
              <a:off x="1486080" y="2338560"/>
              <a:ext cx="3533400" cy="3014640"/>
              <a:chOff x="1486080" y="2338560"/>
              <a:chExt cx="3533400" cy="3014640"/>
            </a:xfrm>
          </p:grpSpPr>
          <p:sp>
            <p:nvSpPr>
              <p:cNvPr id="46" name="Rectangle 28"/>
              <p:cNvSpPr/>
              <p:nvPr/>
            </p:nvSpPr>
            <p:spPr>
              <a:xfrm>
                <a:off x="1486080" y="2338560"/>
                <a:ext cx="353340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29"/>
              <p:cNvSpPr/>
              <p:nvPr/>
            </p:nvSpPr>
            <p:spPr>
              <a:xfrm>
                <a:off x="1486080" y="2398680"/>
                <a:ext cx="3533400" cy="29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lang="en-US" sz="2600" spc="-1" strike="noStrike">
                    <a:solidFill>
                      <a:srgbClr val="336666"/>
                    </a:solidFill>
                    <a:latin typeface="Times New Roman"/>
                  </a:rPr>
                  <a:t>  </a:t>
                </a:r>
                <a:r>
                  <a:rPr b="0" lang="en-US" sz="13400" spc="-1" strike="noStrike">
                    <a:solidFill>
                      <a:srgbClr val="336666"/>
                    </a:solidFill>
                    <a:latin typeface="Times New Roman"/>
                  </a:rPr>
                  <a:t> </a:t>
                </a:r>
                <a:r>
                  <a:rPr b="0" lang="en-US" sz="2600" spc="-1" strike="noStrike">
                    <a:solidFill>
                      <a:srgbClr val="336666"/>
                    </a:solidFill>
                    <a:latin typeface="Times New Roman"/>
                  </a:rPr>
                  <a:t>                                    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8" name="Object 4"/>
          <p:cNvGraphicFramePr/>
          <p:nvPr/>
        </p:nvGraphicFramePr>
        <p:xfrm>
          <a:off x="2676600" y="1206360"/>
          <a:ext cx="5694120" cy="603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76600" y="1206360"/>
                    <a:ext cx="569412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Picture 31" descr="Image"/>
          <p:cNvPicPr/>
          <p:nvPr/>
        </p:nvPicPr>
        <p:blipFill>
          <a:blip r:embed="rId4"/>
          <a:srcRect l="0" t="12220" r="0" b="77789"/>
          <a:stretch/>
        </p:blipFill>
        <p:spPr>
          <a:xfrm>
            <a:off x="0" y="0"/>
            <a:ext cx="11049120" cy="401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2"/>
          <p:cNvSpPr/>
          <p:nvPr/>
        </p:nvSpPr>
        <p:spPr>
          <a:xfrm>
            <a:off x="5611680" y="804960"/>
            <a:ext cx="20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3"/>
          <p:cNvGrpSpPr/>
          <p:nvPr/>
        </p:nvGrpSpPr>
        <p:grpSpPr>
          <a:xfrm>
            <a:off x="0" y="0"/>
            <a:ext cx="11048400" cy="804600"/>
            <a:chOff x="0" y="0"/>
            <a:chExt cx="11048400" cy="804600"/>
          </a:xfrm>
        </p:grpSpPr>
        <p:pic>
          <p:nvPicPr>
            <p:cNvPr id="53" name="Picture 34" descr="lpdtRemun"/>
            <p:cNvPicPr/>
            <p:nvPr/>
          </p:nvPicPr>
          <p:blipFill>
            <a:blip r:embed="rId5"/>
            <a:stretch/>
          </p:blipFill>
          <p:spPr>
            <a:xfrm>
              <a:off x="2209680" y="0"/>
              <a:ext cx="50641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5" descr="tecladoRemun"/>
            <p:cNvPicPr/>
            <p:nvPr/>
          </p:nvPicPr>
          <p:blipFill>
            <a:blip r:embed="rId6"/>
            <a:stretch/>
          </p:blipFill>
          <p:spPr>
            <a:xfrm>
              <a:off x="7273800" y="0"/>
              <a:ext cx="377460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6" descr="lsunat2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683160" cy="80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9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12840">
              <a:spcBef>
                <a:spcPts val="7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51000" indent="-249120">
              <a:spcBef>
                <a:spcPts val="649"/>
              </a:spcBef>
              <a:buClr>
                <a:srgbClr val="cccccc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249120">
              <a:spcBef>
                <a:spcPts val="550"/>
              </a:spcBef>
              <a:buClr>
                <a:srgbClr val="3366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51080" indent="-247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51080" indent="-247680">
              <a:spcBef>
                <a:spcPts val="550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51080" indent="-247680">
              <a:spcBef>
                <a:spcPts val="550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9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552240" y="6708600"/>
            <a:ext cx="257796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2"/>
          </p:nvPr>
        </p:nvSpPr>
        <p:spPr>
          <a:xfrm>
            <a:off x="3774600" y="6708600"/>
            <a:ext cx="349884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3"/>
          </p:nvPr>
        </p:nvSpPr>
        <p:spPr>
          <a:xfrm>
            <a:off x="7918200" y="6708600"/>
            <a:ext cx="257796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3F55-7495-4D4A-97C3-615D29B8AE5F}" type="slidenum"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9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4"/>
          </p:nvPr>
        </p:nvSpPr>
        <p:spPr>
          <a:xfrm>
            <a:off x="552240" y="6708600"/>
            <a:ext cx="257796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5"/>
          </p:nvPr>
        </p:nvSpPr>
        <p:spPr>
          <a:xfrm>
            <a:off x="3774600" y="6708600"/>
            <a:ext cx="349884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6"/>
          </p:nvPr>
        </p:nvSpPr>
        <p:spPr>
          <a:xfrm>
            <a:off x="7918200" y="6708600"/>
            <a:ext cx="257796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3B0F-8B02-4928-B8FA-8A49FA8C269F}" type="slidenum"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www.geocities.com/suicidal_existance/CTSA/list.jpg&amp;imgrefurl=http://www.geocities.com/suicidal_existance/CTSA/home.htm&amp;h=219&amp;w=250&amp;prev=/images%3Fq%3DLIST%26svnum%3D10%26hl%3Des%26lr%3D%26ie%3DUTF-8%26oe%3DUTF-8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pe/imgres?imgurl=www.dci-carga.com/fotos/barco.jpg&amp;imgrefurl=http://www.dci-carga.com/dci.htm&amp;h=203&amp;w=200&amp;prev=/images%3Fq%3DBARCO%26svnum%3D10%26hl%3Des%26lr%3D%26ie%3DUTF-8%26oe%3DUTF-8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.pe/imgres?imgurl=www.abbeyassociates.com.ar/foto-avion.jpg&amp;imgrefurl=http://www.abbeyassociates.com.ar/airfreight.html&amp;h=203&amp;w=299&amp;prev=/images%3Fq%3Davion%26start%3D480%26svnum%3D10%26hl%3Des%26lr%3D%26ie%3DUTF-8%26oe%25%20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026"/>
          <p:cNvSpPr/>
          <p:nvPr/>
        </p:nvSpPr>
        <p:spPr>
          <a:xfrm>
            <a:off x="3800520" y="2362320"/>
            <a:ext cx="3452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28"/>
          <p:cNvSpPr/>
          <p:nvPr/>
        </p:nvSpPr>
        <p:spPr>
          <a:xfrm>
            <a:off x="3738600" y="2405160"/>
            <a:ext cx="3452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29"/>
          <p:cNvGrpSpPr/>
          <p:nvPr/>
        </p:nvGrpSpPr>
        <p:grpSpPr>
          <a:xfrm>
            <a:off x="325440" y="1019160"/>
            <a:ext cx="2295000" cy="3511080"/>
            <a:chOff x="325440" y="1019160"/>
            <a:chExt cx="2295000" cy="3511080"/>
          </a:xfrm>
        </p:grpSpPr>
        <p:pic>
          <p:nvPicPr>
            <p:cNvPr id="177" name="Picture 1030" descr="list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441800" y="1330200"/>
              <a:ext cx="1178640" cy="24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031" descr="http://images.google.com.pe/images?q=tbn:DSyfcMeglH8C:www.dci-carga.com/fotos/barco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25440" y="1019160"/>
              <a:ext cx="1180800" cy="2005920"/>
            </a:xfrm>
            <a:prstGeom prst="rect">
              <a:avLst/>
            </a:prstGeom>
            <a:ln w="9360">
              <a:solidFill>
                <a:srgbClr val="3366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79" name="Picture 1032" descr="http://images.google.com.pe/images?q=tbn:CgxYLRbYxxAC:www.abbeyassociates.com.ar/foto-avion.jp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83120" y="2771640"/>
              <a:ext cx="1407240" cy="1758600"/>
            </a:xfrm>
            <a:prstGeom prst="rect">
              <a:avLst/>
            </a:prstGeom>
            <a:ln w="9360">
              <a:solidFill>
                <a:srgbClr val="3366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80" name="AutoShape 1033"/>
          <p:cNvSpPr/>
          <p:nvPr/>
        </p:nvSpPr>
        <p:spPr>
          <a:xfrm>
            <a:off x="2378160" y="2865960"/>
            <a:ext cx="8272440" cy="237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cap="sq" w="38160">
            <a:solidFill>
              <a:srgbClr val="666699"/>
            </a:solidFill>
            <a:miter/>
          </a:ln>
          <a:effectLst>
            <a:outerShdw dist="153009" dir="2906017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PE" sz="3500" spc="-1" strike="noStrike">
                <a:solidFill>
                  <a:srgbClr val="800000"/>
                </a:solidFill>
                <a:latin typeface="Tahoma"/>
                <a:ea typeface="Arial"/>
              </a:rPr>
              <a:t>PROCESO DEL MANIFIESTO DE CARGA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1 Rectángulo"/>
          <p:cNvSpPr/>
          <p:nvPr/>
        </p:nvSpPr>
        <p:spPr>
          <a:xfrm>
            <a:off x="5452920" y="56196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gost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809640" y="2727360"/>
            <a:ext cx="929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transportista debe transmitir a la administración aduanera dentro de las seis (6) horas de culminada la descarga, la información del 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Término de la Descarga.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el caso que no corresponda efectuarse la descarga, se considera como término de la descarga la fecha y hora de llegada del medio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1595520" y="1690560"/>
            <a:ext cx="8102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5. TÉRMINO DE LA DES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595440" y="2405160"/>
            <a:ext cx="9651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 mercancía descargada en el puerto o terminal de carga es entregada por el transportista al dueño o consignatario, cuando cuente con DAM sujeta a despacho anticipado, sin obligatoriedad de traslado a otros recintos que no sean considerados puntos de lleg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ara el retiro del puerto o terminal de carga del transportista aéreo, la DAM debe contar con levante o la autorización de salida, según correspo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TREGA DE MERCANCÍAS AL DUEÑO O ALMACEN ADUA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595440" y="2190600"/>
            <a:ext cx="965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transportista transmite la información de la nota de tarja, a partir de la descarga de la mercancía y hasta 08 horas siguientes al término de la descarga. La nota de tarja se transmite o registra por documento de transporte, contenedor o bulto, conforme van siendo descarg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ara la salida de la mercancía del puerto o del terminal de carga, respectivamente, se debe transmitir o registrar la nota de tarja previamente al retiro de la mercancía de dichos reci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ara la salida del puerto de mercancías a granel con destinación y sujeta a regularización, la nota de tarja se efectúa por el total de mercancías manifes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6. TRANSMISIÓN DE LA NOTA DE TA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0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3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2898720" y="33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5661000" y="309564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3486240" y="415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1146240" y="1003320"/>
            <a:ext cx="8988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ENTREGA EN EL PUNTO DE LLE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248520" y="3889440"/>
            <a:ext cx="183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1"/>
          <p:cNvSpPr/>
          <p:nvPr/>
        </p:nvSpPr>
        <p:spPr>
          <a:xfrm>
            <a:off x="2109600" y="440856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Manifies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2"/>
          <p:cNvSpPr/>
          <p:nvPr/>
        </p:nvSpPr>
        <p:spPr>
          <a:xfrm>
            <a:off x="6361200" y="4470480"/>
            <a:ext cx="170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Dueño o Consigna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3"/>
          <p:cNvSpPr/>
          <p:nvPr/>
        </p:nvSpPr>
        <p:spPr>
          <a:xfrm>
            <a:off x="2585880" y="4229280"/>
            <a:ext cx="0" cy="1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4"/>
          <p:cNvSpPr/>
          <p:nvPr/>
        </p:nvSpPr>
        <p:spPr>
          <a:xfrm>
            <a:off x="7097760" y="4229280"/>
            <a:ext cx="0" cy="1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5"/>
          <p:cNvSpPr/>
          <p:nvPr/>
        </p:nvSpPr>
        <p:spPr>
          <a:xfrm>
            <a:off x="9399600" y="4308480"/>
            <a:ext cx="0" cy="81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4611600" y="4229280"/>
            <a:ext cx="0" cy="1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7"/>
          <p:cNvSpPr/>
          <p:nvPr/>
        </p:nvSpPr>
        <p:spPr>
          <a:xfrm>
            <a:off x="3800520" y="4854600"/>
            <a:ext cx="154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Transpor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Nota de Tar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8"/>
          <p:cNvSpPr/>
          <p:nvPr/>
        </p:nvSpPr>
        <p:spPr>
          <a:xfrm>
            <a:off x="2676600" y="6256440"/>
            <a:ext cx="0" cy="1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9"/>
          <p:cNvSpPr/>
          <p:nvPr/>
        </p:nvSpPr>
        <p:spPr>
          <a:xfrm>
            <a:off x="9674280" y="6256440"/>
            <a:ext cx="0" cy="1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0" descr="TN00333_"/>
          <p:cNvPicPr/>
          <p:nvPr/>
        </p:nvPicPr>
        <p:blipFill>
          <a:blip r:embed="rId1"/>
          <a:stretch/>
        </p:blipFill>
        <p:spPr>
          <a:xfrm>
            <a:off x="2168640" y="2968560"/>
            <a:ext cx="828720" cy="1123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1" descr=""/>
          <p:cNvPicPr/>
          <p:nvPr/>
        </p:nvPicPr>
        <p:blipFill>
          <a:blip r:embed="rId2"/>
          <a:stretch/>
        </p:blipFill>
        <p:spPr>
          <a:xfrm>
            <a:off x="8920080" y="2892600"/>
            <a:ext cx="835200" cy="1096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2" descr="descarga"/>
          <p:cNvPicPr/>
          <p:nvPr/>
        </p:nvPicPr>
        <p:blipFill>
          <a:blip r:embed="rId3"/>
          <a:stretch/>
        </p:blipFill>
        <p:spPr>
          <a:xfrm>
            <a:off x="3908520" y="2892600"/>
            <a:ext cx="1601640" cy="125568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43"/>
          <p:cNvSpPr/>
          <p:nvPr/>
        </p:nvSpPr>
        <p:spPr>
          <a:xfrm>
            <a:off x="5348520" y="649116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48 ho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4"/>
          <p:cNvSpPr/>
          <p:nvPr/>
        </p:nvSpPr>
        <p:spPr>
          <a:xfrm>
            <a:off x="2585880" y="4389480"/>
            <a:ext cx="68137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5"/>
          <p:cNvSpPr/>
          <p:nvPr/>
        </p:nvSpPr>
        <p:spPr>
          <a:xfrm>
            <a:off x="8512200" y="228132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Le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6"/>
          <p:cNvSpPr/>
          <p:nvPr/>
        </p:nvSpPr>
        <p:spPr>
          <a:xfrm>
            <a:off x="2676600" y="6416640"/>
            <a:ext cx="69976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7"/>
          <p:cNvSpPr/>
          <p:nvPr/>
        </p:nvSpPr>
        <p:spPr>
          <a:xfrm>
            <a:off x="2019240" y="2252520"/>
            <a:ext cx="129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Llegad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la n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8" descr=""/>
          <p:cNvPicPr/>
          <p:nvPr/>
        </p:nvPicPr>
        <p:blipFill>
          <a:blip r:embed="rId4"/>
          <a:stretch/>
        </p:blipFill>
        <p:spPr>
          <a:xfrm>
            <a:off x="776160" y="3044880"/>
            <a:ext cx="835200" cy="109692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9"/>
          <p:cNvSpPr/>
          <p:nvPr/>
        </p:nvSpPr>
        <p:spPr>
          <a:xfrm>
            <a:off x="8070840" y="541800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Le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0" descr=""/>
          <p:cNvPicPr/>
          <p:nvPr/>
        </p:nvPicPr>
        <p:blipFill>
          <a:blip r:embed="rId5"/>
          <a:stretch/>
        </p:blipFill>
        <p:spPr>
          <a:xfrm>
            <a:off x="6156360" y="2924280"/>
            <a:ext cx="19875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1" descr="proceso"/>
          <p:cNvPicPr/>
          <p:nvPr/>
        </p:nvPicPr>
        <p:blipFill>
          <a:blip r:embed="rId6"/>
          <a:stretch/>
        </p:blipFill>
        <p:spPr>
          <a:xfrm>
            <a:off x="6451560" y="5176800"/>
            <a:ext cx="1546200" cy="112392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52"/>
          <p:cNvSpPr/>
          <p:nvPr/>
        </p:nvSpPr>
        <p:spPr>
          <a:xfrm>
            <a:off x="4006080" y="2171880"/>
            <a:ext cx="131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Descarga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Entre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3"/>
          <p:cNvSpPr/>
          <p:nvPr/>
        </p:nvSpPr>
        <p:spPr>
          <a:xfrm>
            <a:off x="6378480" y="2200320"/>
            <a:ext cx="144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Almacé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Adua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4"/>
          <p:cNvSpPr/>
          <p:nvPr/>
        </p:nvSpPr>
        <p:spPr>
          <a:xfrm flipV="1">
            <a:off x="5346720" y="4130280"/>
            <a:ext cx="736560" cy="96516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5"/>
          <p:cNvSpPr/>
          <p:nvPr/>
        </p:nvSpPr>
        <p:spPr>
          <a:xfrm>
            <a:off x="5346720" y="5095800"/>
            <a:ext cx="809640" cy="64476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6"/>
          <p:cNvSpPr/>
          <p:nvPr/>
        </p:nvSpPr>
        <p:spPr>
          <a:xfrm>
            <a:off x="555840" y="430848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DU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Anticip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57" descr="Cruise%20Ship"/>
          <p:cNvPicPr/>
          <p:nvPr/>
        </p:nvPicPr>
        <p:blipFill>
          <a:blip r:embed="rId7"/>
          <a:stretch/>
        </p:blipFill>
        <p:spPr>
          <a:xfrm>
            <a:off x="777960" y="5659560"/>
            <a:ext cx="147312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2"/>
          <p:cNvSpPr/>
          <p:nvPr/>
        </p:nvSpPr>
        <p:spPr>
          <a:xfrm>
            <a:off x="1309680" y="3097080"/>
            <a:ext cx="800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transportista o el almacén aduanero, transmite la relación de bultos faltantes o sobrantes y el acta de inventario de la carga arribada en mala condición exterior o con medidas de seguridad violentadas, a partir de la descarga de la mercancía y hasta 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02 días hábiles siguientes al término de l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7. LISTA DE BULTOS FALTANTES, SOBRANTES Y ACTAS DE INVE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0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3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5"/>
          <p:cNvSpPr/>
          <p:nvPr/>
        </p:nvSpPr>
        <p:spPr>
          <a:xfrm>
            <a:off x="2776680" y="38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6"/>
          <p:cNvSpPr/>
          <p:nvPr/>
        </p:nvSpPr>
        <p:spPr>
          <a:xfrm>
            <a:off x="1231920" y="212580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7"/>
          <p:cNvSpPr/>
          <p:nvPr/>
        </p:nvSpPr>
        <p:spPr>
          <a:xfrm>
            <a:off x="5538960" y="3591000"/>
            <a:ext cx="183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4" descr=""/>
          <p:cNvPicPr/>
          <p:nvPr/>
        </p:nvPicPr>
        <p:blipFill>
          <a:blip r:embed="rId1"/>
          <a:stretch/>
        </p:blipFill>
        <p:spPr>
          <a:xfrm>
            <a:off x="5452920" y="3405240"/>
            <a:ext cx="1622520" cy="12477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35"/>
          <p:cNvSpPr/>
          <p:nvPr/>
        </p:nvSpPr>
        <p:spPr>
          <a:xfrm>
            <a:off x="3666960" y="269064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torización de la Des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6"/>
          <p:cNvSpPr/>
          <p:nvPr/>
        </p:nvSpPr>
        <p:spPr>
          <a:xfrm>
            <a:off x="7167600" y="2833560"/>
            <a:ext cx="16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Nota de Tar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8"/>
          <p:cNvSpPr/>
          <p:nvPr/>
        </p:nvSpPr>
        <p:spPr>
          <a:xfrm>
            <a:off x="2244960" y="28335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leg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9" descr="barco-de-carga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52640" y="3405240"/>
            <a:ext cx="1428840" cy="11253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57"/>
          <p:cNvSpPr/>
          <p:nvPr/>
        </p:nvSpPr>
        <p:spPr>
          <a:xfrm>
            <a:off x="1541520" y="1119240"/>
            <a:ext cx="77342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FORMACIÓN A TRANSMITIR POR PA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L TRANSPORT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8"/>
          <p:cNvSpPr/>
          <p:nvPr/>
        </p:nvSpPr>
        <p:spPr>
          <a:xfrm>
            <a:off x="523800" y="2690640"/>
            <a:ext cx="135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anifiesto 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0"/>
          <p:cNvSpPr/>
          <p:nvPr/>
        </p:nvSpPr>
        <p:spPr>
          <a:xfrm>
            <a:off x="666720" y="561960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dd1405"/>
                </a:solidFill>
                <a:latin typeface="Arial"/>
              </a:rPr>
              <a:t>ANTES DEL ARRI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5"/>
          <p:cNvSpPr/>
          <p:nvPr/>
        </p:nvSpPr>
        <p:spPr>
          <a:xfrm>
            <a:off x="5452920" y="276228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érmino de la Des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2" descr="descarga"/>
          <p:cNvPicPr/>
          <p:nvPr/>
        </p:nvPicPr>
        <p:blipFill>
          <a:blip r:embed="rId3"/>
          <a:stretch/>
        </p:blipFill>
        <p:spPr>
          <a:xfrm>
            <a:off x="3666960" y="3405240"/>
            <a:ext cx="1602000" cy="12142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6"/>
          <p:cNvSpPr/>
          <p:nvPr/>
        </p:nvSpPr>
        <p:spPr>
          <a:xfrm>
            <a:off x="8881920" y="2690640"/>
            <a:ext cx="17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ista de Bultos Fal/Sob/Ac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2" descr="inspeccion-quesos"/>
          <p:cNvPicPr/>
          <p:nvPr/>
        </p:nvPicPr>
        <p:blipFill>
          <a:blip r:embed="rId4"/>
          <a:stretch/>
        </p:blipFill>
        <p:spPr>
          <a:xfrm>
            <a:off x="9024840" y="3405240"/>
            <a:ext cx="1608120" cy="1214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C:\Documents and Settings\lhuamancaja\Mis documentos\Mis imágenes\lista.gif"/>
          <p:cNvPicPr/>
          <p:nvPr/>
        </p:nvPicPr>
        <p:blipFill>
          <a:blip r:embed="rId5"/>
          <a:stretch/>
        </p:blipFill>
        <p:spPr>
          <a:xfrm>
            <a:off x="7381800" y="3333600"/>
            <a:ext cx="1357560" cy="1357560"/>
          </a:xfrm>
          <a:prstGeom prst="rect">
            <a:avLst/>
          </a:prstGeom>
          <a:ln w="0">
            <a:noFill/>
          </a:ln>
        </p:spPr>
      </p:pic>
      <p:grpSp>
        <p:nvGrpSpPr>
          <p:cNvPr id="502" name="Group 31"/>
          <p:cNvGrpSpPr/>
          <p:nvPr/>
        </p:nvGrpSpPr>
        <p:grpSpPr>
          <a:xfrm>
            <a:off x="452520" y="3476520"/>
            <a:ext cx="1285560" cy="999720"/>
            <a:chOff x="452520" y="3476520"/>
            <a:chExt cx="1285560" cy="999720"/>
          </a:xfrm>
        </p:grpSpPr>
        <p:sp>
          <p:nvSpPr>
            <p:cNvPr id="503" name="AutoShape 32"/>
            <p:cNvSpPr/>
            <p:nvPr/>
          </p:nvSpPr>
          <p:spPr>
            <a:xfrm>
              <a:off x="452520" y="3476520"/>
              <a:ext cx="1285560" cy="9997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33"/>
            <p:cNvSpPr/>
            <p:nvPr/>
          </p:nvSpPr>
          <p:spPr>
            <a:xfrm>
              <a:off x="542520" y="3812040"/>
              <a:ext cx="9802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d0d0d"/>
                  </a:solidFill>
                  <a:latin typeface="Calibri"/>
                </a:rPr>
                <a:t>MANIFIES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d0d0d"/>
                  </a:solidFill>
                  <a:latin typeface="Calibri"/>
                </a:rPr>
                <a:t>DE CARG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49 Grupo"/>
          <p:cNvGrpSpPr/>
          <p:nvPr/>
        </p:nvGrpSpPr>
        <p:grpSpPr>
          <a:xfrm>
            <a:off x="452520" y="5547960"/>
            <a:ext cx="10144080" cy="571320"/>
            <a:chOff x="452520" y="5547960"/>
            <a:chExt cx="10144080" cy="571320"/>
          </a:xfrm>
        </p:grpSpPr>
        <p:sp>
          <p:nvSpPr>
            <p:cNvPr id="506" name="Line 30"/>
            <p:cNvSpPr/>
            <p:nvPr/>
          </p:nvSpPr>
          <p:spPr>
            <a:xfrm>
              <a:off x="452520" y="5550120"/>
              <a:ext cx="0" cy="559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>
              <a:off x="3524400" y="5548320"/>
              <a:ext cx="0" cy="529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 flipV="1">
              <a:off x="452520" y="5547960"/>
              <a:ext cx="10144080" cy="17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30"/>
            <p:cNvSpPr/>
            <p:nvPr/>
          </p:nvSpPr>
          <p:spPr>
            <a:xfrm>
              <a:off x="10596600" y="5550120"/>
              <a:ext cx="0" cy="559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9"/>
            <p:cNvSpPr/>
            <p:nvPr/>
          </p:nvSpPr>
          <p:spPr>
            <a:xfrm flipV="1">
              <a:off x="452520" y="6101640"/>
              <a:ext cx="10144080" cy="17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60"/>
          <p:cNvSpPr/>
          <p:nvPr/>
        </p:nvSpPr>
        <p:spPr>
          <a:xfrm>
            <a:off x="4024440" y="5619600"/>
            <a:ext cx="61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dd1405"/>
                </a:solidFill>
                <a:latin typeface="Arial"/>
              </a:rPr>
              <a:t>DESPUES DEL ARRIBO - EN EL PUNTO DE LLEG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8"/>
          <p:cNvSpPr/>
          <p:nvPr/>
        </p:nvSpPr>
        <p:spPr>
          <a:xfrm>
            <a:off x="237960" y="4619520"/>
            <a:ext cx="164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arítima: 48h 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érea/Terrestre/Fluvial: 2h  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8"/>
          <p:cNvSpPr/>
          <p:nvPr/>
        </p:nvSpPr>
        <p:spPr>
          <a:xfrm>
            <a:off x="1952640" y="4762440"/>
            <a:ext cx="14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ntes de la lleg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8"/>
          <p:cNvSpPr/>
          <p:nvPr/>
        </p:nvSpPr>
        <p:spPr>
          <a:xfrm>
            <a:off x="3738600" y="4762440"/>
            <a:ext cx="14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utomá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8"/>
          <p:cNvSpPr/>
          <p:nvPr/>
        </p:nvSpPr>
        <p:spPr>
          <a:xfrm>
            <a:off x="5524560" y="4762440"/>
            <a:ext cx="142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6h del términ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e la desca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8"/>
          <p:cNvSpPr/>
          <p:nvPr/>
        </p:nvSpPr>
        <p:spPr>
          <a:xfrm>
            <a:off x="7381800" y="4762440"/>
            <a:ext cx="142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8h del términ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e la desca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8"/>
          <p:cNvSpPr/>
          <p:nvPr/>
        </p:nvSpPr>
        <p:spPr>
          <a:xfrm>
            <a:off x="9096480" y="4762440"/>
            <a:ext cx="142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2d del términ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e la desca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880920" y="2262240"/>
            <a:ext cx="922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 entrega de las mercancías al almacén aduanero se realiza conforme se vaya efectuando l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Recibidas las mercancías por el almacén aduanero, éstas son trasladadas de forma inmediata y bajo su responsabilidad a su rec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los casos de despachos anticipados sujetos a regularización, la transmisión del “Ingreso de la Carga al Almacén Aduanero - ICA” se realiza de acuerdo a lo establecido en los procedimientos aduaneros correspond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8. COMUNICACIÓN DEL INGRESO DE LA CARGA AL ALMACÉN (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880920" y="2262240"/>
            <a:ext cx="922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s mercancías serán trasladadas a un almacén aduanero cuando se trate de los siguientes ca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6138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Carga peligrosa que no pueda permanecer en puerto, aeropuerto o terminal terrestre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6138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Mercancía destinada al régimen de depósito aduan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6138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Mercancía destinada con posterioridad a la llegada del medio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6138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</a:rPr>
              <a:t>Otros que se establezcan por Decreto Supre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8. COMUNICACIÓN DEL INGRESO DE LA MERCANCÍA AL ALMACÉN (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809640" y="2787480"/>
            <a:ext cx="9294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almacén aduanero es responsable por las mercancías desde su recepción y por la falta, pérdida o daño de las mercancías recib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almacén aduanero transmite a la administración aduanera la inform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161387"/>
                </a:solidFill>
                <a:latin typeface="Arial"/>
              </a:rPr>
              <a:t>Ingreso de la Carga al Almacén Aduanero - ICA”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dentro de las veinticuatro (24) horas siguientes a su ingreso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8. COMUNICACIÓN DEL INGRESO DE LA MERCANCÍA AL ALMACÉN (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2"/>
          <p:cNvSpPr/>
          <p:nvPr/>
        </p:nvSpPr>
        <p:spPr>
          <a:xfrm>
            <a:off x="2095560" y="2908440"/>
            <a:ext cx="5794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161387"/>
                </a:solidFill>
                <a:latin typeface="Arial"/>
              </a:rPr>
              <a:t>Los almacenes aduaneros que tengan que abrir contenedores en sus recintos para extraer bultos deben transmitir a la administración aduanera la información de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161387"/>
                </a:solidFill>
                <a:latin typeface="Arial"/>
              </a:rPr>
              <a:t>“Ingreso de la Carga al Almacén Aduanero - ICA” 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</a:rPr>
              <a:t>dentro de las veinticuatro (24) horas siguientes a su realiz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c00000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8. COMUNICACIÓN DEL INGRESO DE LA MERCANCÍA AL ALMACÉN (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736560" y="1528920"/>
            <a:ext cx="972360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95440" y="1976400"/>
            <a:ext cx="1001700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ransmisión del </a:t>
            </a:r>
            <a:r>
              <a:rPr b="0" lang="es-ES" sz="2200" spc="-1" strike="noStrike">
                <a:solidFill>
                  <a:srgbClr val="161387"/>
                </a:solidFill>
                <a:latin typeface="Arial"/>
              </a:rPr>
              <a:t>manifiesto de carg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ransmisión del manifiesto de carga consolidado y desconsolid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Comunicación de la llegada del medio de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Autorización de la descarga de la mercancí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érmino de la descarg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ransmisión de la nota de tar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ransmisión de la lista de bultos faltantes, sobrantes y actas de inventa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Comunicación del ingreso de la mercancía al almacé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ransmisión de la tarja al detal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Rectificación e incorporación de documentos de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380880" y="838080"/>
            <a:ext cx="1035864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ROCESO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595440" y="2262240"/>
            <a:ext cx="96519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Arial"/>
              </a:rPr>
              <a:t>La transmisión electrónica o registro de los datos de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Arial"/>
              </a:rPr>
              <a:t>efectuarse en los siguientes plaz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la vía marítima hasta las veinticuatro (24) horas siguientes al término de l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la vía aérea hasta las doce (12) horas siguientes al término de l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la vía terrestre, fluvial o lacustre, hasta las doce (12) horas siguientes al término de l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9. TRANSMISIÓN DE LA TARJA AL DET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17 Rectángulo"/>
          <p:cNvSpPr/>
          <p:nvPr/>
        </p:nvSpPr>
        <p:spPr>
          <a:xfrm>
            <a:off x="523800" y="5762520"/>
            <a:ext cx="971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almacén aduanero transmite a la Administración Aduanera o registra los datos de la tarja al detalle por documento de transporte desconsoli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595440" y="2548080"/>
            <a:ext cx="965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Tratándose de carga consolidada, la información relativa a bultos y peso de las mercancías se registra con la recepción de la información de la tarja al detalle enviada por el depósito tempo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el caso de carga consolidada arribada en contenedores con carga consignada a un solo dueño, el depósito temporal transmite la tarja al detalle de acuerdo a la información consignada en  el documento de transporte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9. TRANSMISIÓN DE LA TARJA AL DET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"/>
          <p:cNvGraphicFramePr/>
          <p:nvPr/>
        </p:nvGraphicFramePr>
        <p:xfrm>
          <a:off x="173160" y="603360"/>
          <a:ext cx="10617120" cy="3114720"/>
        </p:xfrm>
        <a:graphic>
          <a:graphicData uri="http://schemas.openxmlformats.org/drawingml/2006/table">
            <a:tbl>
              <a:tblPr/>
              <a:tblGrid>
                <a:gridCol w="334800"/>
                <a:gridCol w="1087560"/>
                <a:gridCol w="485640"/>
                <a:gridCol w="725400"/>
                <a:gridCol w="846360"/>
                <a:gridCol w="846000"/>
                <a:gridCol w="846360"/>
                <a:gridCol w="603000"/>
                <a:gridCol w="486000"/>
                <a:gridCol w="725400"/>
                <a:gridCol w="485640"/>
                <a:gridCol w="487440"/>
                <a:gridCol w="723960"/>
                <a:gridCol w="604800"/>
                <a:gridCol w="642960"/>
                <a:gridCol w="685800"/>
              </a:tblGrid>
              <a:tr h="147240">
                <a:tc gridSpan="2" rowSpan="3"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IA MARÍTIMA / FLUVI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INGRE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SALI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PROCE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PROCE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DUA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cumentos del c) al i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consolid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formación complementa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unicación de la llega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 la descar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ta de tarj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ultos Fal/Sob/Act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ja al deta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ización de car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l embarqu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solid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4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rítima del Call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(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i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alaver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llen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imbo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qui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(*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(*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(*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(*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(*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callp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erto Maldona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apo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cna (usa formato terrestr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5" name="Rectangle 3"/>
          <p:cNvSpPr/>
          <p:nvPr/>
        </p:nvSpPr>
        <p:spPr>
          <a:xfrm>
            <a:off x="0" y="0"/>
            <a:ext cx="210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spAutoFit/>
          </a:bodyPr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431640" y="3846600"/>
          <a:ext cx="10379160" cy="488880"/>
        </p:xfrm>
        <a:graphic>
          <a:graphicData uri="http://schemas.openxmlformats.org/drawingml/2006/table">
            <a:tbl>
              <a:tblPr/>
              <a:tblGrid>
                <a:gridCol w="1204920"/>
                <a:gridCol w="486000"/>
                <a:gridCol w="723960"/>
                <a:gridCol w="842760"/>
                <a:gridCol w="844560"/>
                <a:gridCol w="844560"/>
                <a:gridCol w="601560"/>
                <a:gridCol w="486000"/>
                <a:gridCol w="723960"/>
                <a:gridCol w="484200"/>
                <a:gridCol w="484200"/>
                <a:gridCol w="723600"/>
                <a:gridCol w="603360"/>
                <a:gridCol w="603360"/>
                <a:gridCol w="722160"/>
              </a:tblGrid>
              <a:tr h="48888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PONSABLE DE PROPORCIONAR LA INFORMACIÓ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/Dep. 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/Ag. Aduan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 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 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617" name="Rectangle 4"/>
          <p:cNvSpPr/>
          <p:nvPr/>
        </p:nvSpPr>
        <p:spPr>
          <a:xfrm>
            <a:off x="12600" y="5027760"/>
            <a:ext cx="79995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spAutoFit/>
          </a:bodyPr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T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Transmisión Electrónic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R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Registro Web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F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Físico u otro medio que las intendencias estimen pertin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NA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No ap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(*)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Excepcionalmente podrán presentarlo en forma física durante el periodo de implementació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(**)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También podrá presentarlo mediante archivo magnético u otro medios que las intendencias estimen pertinent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Nota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Si los documentos de transporte de carga en tránsito no han sido transmitidos en forma electrónica, estos se presentan física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258840" y="1251000"/>
          <a:ext cx="10623600" cy="1146240"/>
        </p:xfrm>
        <a:graphic>
          <a:graphicData uri="http://schemas.openxmlformats.org/drawingml/2006/table">
            <a:tbl>
              <a:tblPr/>
              <a:tblGrid>
                <a:gridCol w="306360"/>
                <a:gridCol w="984240"/>
                <a:gridCol w="663480"/>
                <a:gridCol w="693720"/>
                <a:gridCol w="835200"/>
                <a:gridCol w="834840"/>
                <a:gridCol w="665280"/>
                <a:gridCol w="665280"/>
                <a:gridCol w="661680"/>
                <a:gridCol w="663840"/>
                <a:gridCol w="554040"/>
                <a:gridCol w="662040"/>
                <a:gridCol w="663480"/>
                <a:gridCol w="554040"/>
                <a:gridCol w="552240"/>
                <a:gridCol w="663840"/>
              </a:tblGrid>
              <a:tr h="158040">
                <a:tc gridSpan="2" rowSpan="3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ÍA </a:t>
                      </a: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É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INGRE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SALI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unicación de la llega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 la descar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ta de tarj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ultos Fal/Sob/Act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ja al deta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ización de car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l embarqu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DUA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cumentos del c) al i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consolid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formación complementa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solid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804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érea del Call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(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to de Adua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258840" y="2533680"/>
          <a:ext cx="10623600" cy="452520"/>
        </p:xfrm>
        <a:graphic>
          <a:graphicData uri="http://schemas.openxmlformats.org/drawingml/2006/table">
            <a:tbl>
              <a:tblPr/>
              <a:tblGrid>
                <a:gridCol w="1346040"/>
                <a:gridCol w="571680"/>
                <a:gridCol w="687240"/>
                <a:gridCol w="920880"/>
                <a:gridCol w="799920"/>
                <a:gridCol w="687600"/>
                <a:gridCol w="687240"/>
                <a:gridCol w="571680"/>
                <a:gridCol w="685800"/>
                <a:gridCol w="687240"/>
                <a:gridCol w="460440"/>
                <a:gridCol w="685800"/>
                <a:gridCol w="573120"/>
                <a:gridCol w="573120"/>
                <a:gridCol w="685800"/>
              </a:tblGrid>
              <a:tr h="45252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PONSABLE DE PROPORCIONAR LA INFORMACIÓ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/Dep. 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/Ag. Aduan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 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258840" y="3514680"/>
          <a:ext cx="10617120" cy="1630440"/>
        </p:xfrm>
        <a:graphic>
          <a:graphicData uri="http://schemas.openxmlformats.org/drawingml/2006/table">
            <a:tbl>
              <a:tblPr/>
              <a:tblGrid>
                <a:gridCol w="353880"/>
                <a:gridCol w="1138320"/>
                <a:gridCol w="523800"/>
                <a:gridCol w="711360"/>
                <a:gridCol w="836640"/>
                <a:gridCol w="880920"/>
                <a:gridCol w="766800"/>
                <a:gridCol w="639720"/>
                <a:gridCol w="514440"/>
                <a:gridCol w="639720"/>
                <a:gridCol w="382680"/>
                <a:gridCol w="514080"/>
                <a:gridCol w="640080"/>
                <a:gridCol w="637920"/>
                <a:gridCol w="639720"/>
                <a:gridCol w="797040"/>
              </a:tblGrid>
              <a:tr h="158040">
                <a:tc gridSpan="2" rowSpan="3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IA TERREST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INGRE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SALI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PROCE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PROCE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2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DUA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cumentos del c) al i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consolidad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formación complementar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unicación de la llegad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 la des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ta de tarj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ultos Fal/Sob/Act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C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ja al detall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ización 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l embarqu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solidad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rítima del Call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érea del Call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c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to de Adua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58840" y="5173560"/>
          <a:ext cx="10617120" cy="333360"/>
        </p:xfrm>
        <a:graphic>
          <a:graphicData uri="http://schemas.openxmlformats.org/drawingml/2006/table">
            <a:tbl>
              <a:tblPr/>
              <a:tblGrid>
                <a:gridCol w="1509480"/>
                <a:gridCol w="563760"/>
                <a:gridCol w="588960"/>
                <a:gridCol w="898560"/>
                <a:gridCol w="898560"/>
                <a:gridCol w="768240"/>
                <a:gridCol w="641520"/>
                <a:gridCol w="563400"/>
                <a:gridCol w="590400"/>
                <a:gridCol w="641520"/>
                <a:gridCol w="515880"/>
                <a:gridCol w="641520"/>
                <a:gridCol w="641160"/>
                <a:gridCol w="563760"/>
                <a:gridCol w="590400"/>
              </a:tblGrid>
              <a:tr h="33336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PONSABLE DE PROPORCIONAR LA INFORMACIÓ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/Dep. 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/Ag. Aduan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622" name="Rectangle 1"/>
          <p:cNvSpPr/>
          <p:nvPr/>
        </p:nvSpPr>
        <p:spPr>
          <a:xfrm>
            <a:off x="208080" y="5705280"/>
            <a:ext cx="724644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spAutoFit/>
          </a:bodyPr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T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Trans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R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Regist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F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Físico u otro medio que las intendencias estimen pertin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NA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No apl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(*)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Excepcionalmente podrán presentarlo en forma física durante el periodo de implementació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Nota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Si los documentos de transporte de carga en tránsito no han sido transmitidos en forma electrónica, estos se presentan físicam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8"/>
          <p:cNvSpPr/>
          <p:nvPr/>
        </p:nvSpPr>
        <p:spPr>
          <a:xfrm>
            <a:off x="738360" y="1976400"/>
            <a:ext cx="93535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EL IN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l transportista y el agente de carga internacional pueden rectificar errores e incorporar documentos al manifiesto de carga hasta antes de la salida de la mercancía del punto de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llegada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rectificación de errores y la incorporación de documentos de transporte al manifiesto de carga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se realiz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por medios electrón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La Administración Aduanera podrá requerir la documentación que sustenta la rectificación o incorpo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No procede la rectificación de errores o incorporación cuando la autoridad aduanera haya dispuesto la ejecución de una acción de control extraordinario y hasta su culminació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8"/>
          <p:cNvSpPr/>
          <p:nvPr/>
        </p:nvSpPr>
        <p:spPr>
          <a:xfrm>
            <a:off x="738360" y="1976400"/>
            <a:ext cx="93535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EL INGRESO (N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a solicitud de </a:t>
            </a:r>
            <a:r>
              <a:rPr b="0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rectificación de errores del manifiesto de carga de ingreso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se </a:t>
            </a:r>
            <a:r>
              <a:rPr b="0" lang="es-PE" sz="2400" spc="-1" strike="noStrike" u="sng">
                <a:solidFill>
                  <a:srgbClr val="161387"/>
                </a:solidFill>
                <a:uFillTx/>
                <a:latin typeface="Arial"/>
                <a:ea typeface="Arial"/>
              </a:rPr>
              <a:t>sujeta a evaluación previa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cuando se presenten cualquiera de los siguientes cas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l documento de transporte se encuentre da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Se trate de descripción de las mercanc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Caso contrario se tramita como una solicitud sujeta a aprobación auto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738360" y="1976400"/>
            <a:ext cx="93535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EL INGRESO (N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a solicitud de </a:t>
            </a:r>
            <a:r>
              <a:rPr b="0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incorporación de documentos de transporte al manifiesto de carga de ingreso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será de </a:t>
            </a:r>
            <a:r>
              <a:rPr b="0" lang="es-PE" sz="2400" spc="-1" strike="noStrike" u="sng">
                <a:solidFill>
                  <a:srgbClr val="161387"/>
                </a:solidFill>
                <a:uFillTx/>
                <a:latin typeface="Arial"/>
                <a:ea typeface="Arial"/>
              </a:rPr>
              <a:t>aprobación automática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cuando se presenten cualquiera de los siguientes cas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Para los documentos de transporte del manifiesto de carga general, en las vías marítima, aérea y fluvial </a:t>
            </a:r>
            <a:r>
              <a:rPr b="0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hasta antes de la transmisión del término de la descarga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Para los documentos de transporte del manifiesto de carga desconsolidado, en la vía marítima, aérea y fluvial, </a:t>
            </a:r>
            <a:r>
              <a:rPr b="0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hasta antes de la transmisión de la tarja al detalle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8"/>
          <p:cNvSpPr/>
          <p:nvPr/>
        </p:nvSpPr>
        <p:spPr>
          <a:xfrm>
            <a:off x="738360" y="1976400"/>
            <a:ext cx="9353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EL INGRESO (N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n la vía terrestre, hasta antes del registro en el SIGAD de la recepción del medio de transporte por parte de la autoridad aduan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Caso contrario se tramita como una solicitud  electrónica con evaluación prev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8"/>
          <p:cNvSpPr/>
          <p:nvPr/>
        </p:nvSpPr>
        <p:spPr>
          <a:xfrm>
            <a:off x="738360" y="1976400"/>
            <a:ext cx="93535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EL INGRESO (A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a solicitud de </a:t>
            </a:r>
            <a:r>
              <a:rPr b="0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rectificación de errores del manifiesto de carga e incorporación de documentos de transporte al manifiesto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se </a:t>
            </a:r>
            <a:r>
              <a:rPr b="0" lang="es-PE" sz="2400" spc="-1" strike="noStrike" u="sng">
                <a:solidFill>
                  <a:srgbClr val="161387"/>
                </a:solidFill>
                <a:uFillTx/>
                <a:latin typeface="Arial"/>
                <a:ea typeface="Arial"/>
              </a:rPr>
              <a:t>sujeta a evaluación previa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xista registro de la fecha y hora de llegada del medio de transporte;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l agente de carga no haya realizado la desconsolid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a rectificación de errores de descripción de las mercancías en el manifiesto de carga requiere la presentación de la documentación sustent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25"/>
          <p:cNvSpPr/>
          <p:nvPr/>
        </p:nvSpPr>
        <p:spPr>
          <a:xfrm>
            <a:off x="738360" y="2262240"/>
            <a:ext cx="97232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LA SALIDA (N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Se realiz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por medios electrónicos dentro del plazo de 15 días calendario contados a partir del día siguiente a la fecha del término del embarq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La Administración Aduanera podrá requerir la documentación que sustenta de la rectificación o incorpo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ancelación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El manifiesto de carga es cancelado automáticamente una vez transcurrido el plazo de 30 días calendario contados a partir del día siguiente al término del embarque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736560" y="1528920"/>
            <a:ext cx="972360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3166920" y="2444760"/>
            <a:ext cx="7159680" cy="44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498600" indent="-498600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Arial"/>
              </a:rPr>
              <a:t>Los medios para transmitir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Arial"/>
              </a:rPr>
              <a:t>del manifiesto de carg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 Transmisión Electró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(Formatos: CUSCAR y E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Registro en el Portal Web de la SU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61387"/>
              </a:buClr>
              <a:buFont typeface="Wingdings" charset="2"/>
              <a:buChar char="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</a:rPr>
              <a:t>Registrando la información en el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61387"/>
              </a:buClr>
              <a:buFont typeface="Wingdings" charset="2"/>
              <a:buChar char="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</a:rPr>
              <a:t>Remitiendo el archivo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309600" y="838080"/>
            <a:ext cx="10287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93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1. TRANSMISIÓN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5"/>
          <p:cNvSpPr/>
          <p:nvPr/>
        </p:nvSpPr>
        <p:spPr>
          <a:xfrm>
            <a:off x="738360" y="2262240"/>
            <a:ext cx="972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LA SALIDA (A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Se presentan mediante expediente ante la aduana de la circunscripción que corresponda y estarán sujetas a evaluación prev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La Administración Aduanera podrá requerir la documentación que sustenta de la rectificación o incorpo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3381480" y="5181480"/>
            <a:ext cx="494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" sz="3200" spc="-1" strike="noStrike">
                <a:solidFill>
                  <a:srgbClr val="161387"/>
                </a:solidFill>
                <a:latin typeface="Verdana"/>
              </a:rPr>
              <a:t>Gracias por su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12" descr="Globalizacion"/>
          <p:cNvPicPr/>
          <p:nvPr/>
        </p:nvPicPr>
        <p:blipFill>
          <a:blip r:embed="rId1"/>
          <a:stretch/>
        </p:blipFill>
        <p:spPr>
          <a:xfrm>
            <a:off x="3809880" y="2476440"/>
            <a:ext cx="3571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736560" y="1528920"/>
            <a:ext cx="972360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2095560" y="2048040"/>
            <a:ext cx="821520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498600" indent="-498600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Arial"/>
              </a:rPr>
              <a:t>El transportista y el agente de carga debe transmitir la información del manifiesto de carga en los siguientes plaz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3015f"/>
              </a:buClr>
              <a:buFont typeface="Arial"/>
              <a:buChar char="-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V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ía marítima</a:t>
            </a: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: H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asta 48 horas antes de la llegada de la n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3015f"/>
              </a:buClr>
              <a:buFont typeface="Arial"/>
              <a:buChar char="-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V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ía aérea</a:t>
            </a: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: H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asta 2 horas antes de la llegada de la aeron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3015f"/>
              </a:buClr>
              <a:buFont typeface="Arial"/>
              <a:buChar char="-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V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ía terrestre, fluvial y demás vías</a:t>
            </a: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: H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asta antes de la lleg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	</a:t>
            </a: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	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Cuando la travesía sea menor a dichos plazos, la información </a:t>
            </a: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se 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transmite hasta antes de la llegada del medio de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309600" y="838080"/>
            <a:ext cx="10287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93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1. TRANSMISIÓN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029"/>
          <p:cNvGrpSpPr/>
          <p:nvPr/>
        </p:nvGrpSpPr>
        <p:grpSpPr>
          <a:xfrm>
            <a:off x="523800" y="3333600"/>
            <a:ext cx="1714680" cy="2482560"/>
            <a:chOff x="523800" y="3333600"/>
            <a:chExt cx="1714680" cy="2482560"/>
          </a:xfrm>
        </p:grpSpPr>
        <p:pic>
          <p:nvPicPr>
            <p:cNvPr id="235" name="Picture 1030" descr="list"/>
            <p:cNvPicPr/>
            <p:nvPr/>
          </p:nvPicPr>
          <p:blipFill>
            <a:blip r:embed="rId1"/>
            <a:stretch/>
          </p:blipFill>
          <p:spPr>
            <a:xfrm>
              <a:off x="1357920" y="3553560"/>
              <a:ext cx="880560" cy="176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031" descr="http://images.google.com.pe/images?q=tbn:DSyfcMeglH8C:www.dci-carga.com/fotos/barco.jpg"/>
            <p:cNvPicPr/>
            <p:nvPr/>
          </p:nvPicPr>
          <p:blipFill>
            <a:blip r:embed="rId2"/>
            <a:stretch/>
          </p:blipFill>
          <p:spPr>
            <a:xfrm>
              <a:off x="523800" y="3333600"/>
              <a:ext cx="883080" cy="1416960"/>
            </a:xfrm>
            <a:prstGeom prst="rect">
              <a:avLst/>
            </a:prstGeom>
            <a:ln w="9360">
              <a:solidFill>
                <a:srgbClr val="3366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37" name="Picture 1032" descr="http://images.google.com.pe/images?q=tbn:CgxYLRbYxxAC:www.abbeyassociates.com.ar/foto-avion.jpg"/>
            <p:cNvPicPr/>
            <p:nvPr/>
          </p:nvPicPr>
          <p:blipFill>
            <a:blip r:embed="rId3"/>
            <a:stretch/>
          </p:blipFill>
          <p:spPr>
            <a:xfrm>
              <a:off x="641520" y="4572720"/>
              <a:ext cx="1050480" cy="1243440"/>
            </a:xfrm>
            <a:prstGeom prst="rect">
              <a:avLst/>
            </a:prstGeom>
            <a:ln w="9360">
              <a:solidFill>
                <a:srgbClr val="3366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595440" y="2119320"/>
            <a:ext cx="9786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c00000"/>
                </a:solidFill>
                <a:latin typeface="Arial"/>
                <a:ea typeface="Arial"/>
              </a:rPr>
              <a:t>El transportista debe transmitir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l manifiesto de carg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que contenga el detalle de la carga para el lugar de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Los documentos de transporte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que corresponden a la carga para el lugar de ingreso, </a:t>
            </a:r>
            <a:r>
              <a:rPr b="0" lang="es-ES" sz="2400" spc="-1" strike="noStrike" u="sng">
                <a:solidFill>
                  <a:srgbClr val="161387"/>
                </a:solidFill>
                <a:uFillTx/>
                <a:latin typeface="Arial"/>
              </a:rPr>
              <a:t>incluyendo la carga en tránsito para otros destinos y la carga no desembarcada en el destino originalmente manifestado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237960" y="762120"/>
            <a:ext cx="1057284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1. TRANSMISIÓN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5 Rectángulo"/>
          <p:cNvSpPr/>
          <p:nvPr/>
        </p:nvSpPr>
        <p:spPr>
          <a:xfrm>
            <a:off x="523800" y="5548320"/>
            <a:ext cx="1014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2400" spc="-1" strike="noStrike">
                <a:solidFill>
                  <a:srgbClr val="161387"/>
                </a:solidFill>
                <a:latin typeface="Arial"/>
              </a:rPr>
              <a:t>Los demás documentos, tales como la relación de pasajeros, equipajes, tripulantes, lista de provisiones a bordo, etc. se presentarán físicamente hasta que se desarrolle la opción informática para su transm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237960" y="833400"/>
            <a:ext cx="1057284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1. TRANSMISIÓN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25 Rectángulo"/>
          <p:cNvSpPr/>
          <p:nvPr/>
        </p:nvSpPr>
        <p:spPr>
          <a:xfrm>
            <a:off x="666720" y="2190600"/>
            <a:ext cx="96440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1440" algn="just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TEMAS IMPOR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 algn="just">
              <a:lnSpc>
                <a:spcPct val="100000"/>
              </a:lnSpc>
              <a:buClr>
                <a:srgbClr val="161387"/>
              </a:buClr>
              <a:buFont typeface="Courier New"/>
              <a:buChar char="o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 algn="just">
              <a:lnSpc>
                <a:spcPct val="100000"/>
              </a:lnSpc>
              <a:buClr>
                <a:srgbClr val="161387"/>
              </a:buClr>
              <a:buFont typeface="Courier New"/>
              <a:buChar char="o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Se considera transmitida la información del manifiesto cuando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se cuente con la confirmación de la recepción del total de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 algn="just">
              <a:lnSpc>
                <a:spcPct val="100000"/>
              </a:lnSpc>
              <a:buClr>
                <a:srgbClr val="161387"/>
              </a:buClr>
              <a:buFont typeface="Courier New"/>
              <a:buChar char="o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 algn="just">
              <a:lnSpc>
                <a:spcPct val="100000"/>
              </a:lnSpc>
              <a:buClr>
                <a:srgbClr val="161387"/>
              </a:buClr>
              <a:buFont typeface="Courier New"/>
              <a:buChar char="o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ara mercancías transportadas en contenedores que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corresponden a diferentes documentos de transporte máster,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transportista transmite la nota de tarja de cada uno de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 algn="just">
              <a:lnSpc>
                <a:spcPct val="100000"/>
              </a:lnSpc>
              <a:buClr>
                <a:srgbClr val="161387"/>
              </a:buClr>
              <a:buFont typeface="Courier New"/>
              <a:buChar char="o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738360" y="2405160"/>
            <a:ext cx="9786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El agente de carga debe transmitir el manifiesto de carga consolidado o desconsolidado en los mismos plazos que los transmite el transport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(Temporalmente podrá presentarlo en forma física en tanto los 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temporales podrán transmitirlo para realizar su tarja al deta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TRANSMISIÓN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Si la transmisión remitida no indica el número del manifiesto, el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de carga transmite dicha información de manera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hasta 12 horas después de la transmisión del manifiesto de 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9"/>
          <p:cNvSpPr/>
          <p:nvPr/>
        </p:nvSpPr>
        <p:spPr>
          <a:xfrm>
            <a:off x="237960" y="833400"/>
            <a:ext cx="1057284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2. TRANSMISIÓN DEL MANIFIESTO DE CAR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CONSOLIDADO O DESCONSOLI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8"/>
          <p:cNvSpPr/>
          <p:nvPr/>
        </p:nvSpPr>
        <p:spPr>
          <a:xfrm>
            <a:off x="666720" y="2405160"/>
            <a:ext cx="964404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</a:rPr>
              <a:t>PRESENTACIÓ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DEL MANIFIESTO DE CARGA DE </a:t>
            </a:r>
            <a:r>
              <a:rPr b="1" lang="es-PE" sz="2400" spc="-1" strike="noStrike">
                <a:solidFill>
                  <a:srgbClr val="c00000"/>
                </a:solidFill>
                <a:latin typeface="Arial"/>
              </a:rPr>
              <a:t>INGRES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c00000"/>
                </a:solidFill>
                <a:latin typeface="Arial"/>
              </a:rPr>
              <a:t>SALIDA POR EXCEPCIÓN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cc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Atendiendo a la logística e infraestructura operativa, así como actividades no permanentes de ingreso o salida de personas o medios de transporte, en donde la administración aduanera no pueda recibir en forma electrónica la información del operador de comercio exterior, éstos estarán exceptuados de su transmisión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RESENTACIÓN DEL MANIFIESTO DE CARGA POR EX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023840" y="2548080"/>
            <a:ext cx="922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l transportista comunica por medios electrónicos a la administración aduanera o registra en el portal web de la SUNAT la fecha y hora de la llegada del medio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o hace hast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antes de la llegada del medio de transporte; asimismo, solicita la autorización de descarga de las mercancías, cuando correspon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 autorización de la descarga se efectúa de forma autom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3.</a:t>
            </a:r>
            <a:r>
              <a:rPr b="0" lang="es-ES" sz="31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COMUNICACIÓN DE LA LLEGADA DEL MEDIO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02:31:47Z</dcterms:created>
  <dc:creator>José Estrada Sánchez</dc:creator>
  <dc:description/>
  <dc:language>en-US</dc:language>
  <cp:lastModifiedBy>prueba</cp:lastModifiedBy>
  <dcterms:modified xsi:type="dcterms:W3CDTF">2010-08-27T22:14:45Z</dcterms:modified>
  <cp:revision>1478</cp:revision>
  <dc:subject/>
  <dc:title>Arquitectura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