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6.wmf" ContentType="image/x-wmf"/>
  <Override PartName="/ppt/media/image4.wmf" ContentType="image/x-wmf"/>
  <Override PartName="/ppt/media/image5.wmf" ContentType="image/x-wmf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C234-1D04-43C2-BA15-BF6B6BA7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8D9-C103-4E8F-AEEA-5C59172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FB0-7025-4C2E-AB78-E51C7C69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D75C-872C-479F-9289-C629E2FC1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E92-69BC-4A20-AA1A-17801AC7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EEA-792A-461F-9E19-099CEB61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400-DCB7-4920-9BA0-CBD198286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7F4-7491-4CC2-AF82-BA686589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FBF8-A1EF-4D85-83FD-82AEB930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A0C1-B613-4FF9-B1A2-2FDFA863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3BE4-70C4-45B4-9BE9-7BCAFB7BD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6D1-C122-4203-AE24-192EBFEB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F9EB-8478-47DF-9187-E52F2A89EE3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hyperlink" Target="file://Pc6515a/Revisi&#243;n%20Procedimientos%20IFGRA/IFGRA-PE.11%20Anexo%201%20y%202.doc" TargetMode="External"/><Relationship Id="rId7" Type="http://schemas.openxmlformats.org/officeDocument/2006/relationships/hyperlink" Target="file://Pc6515a/Revisi&#243;n%20Procedimientos%20IFGRA/Anexo%201%20-%20Ley%2028438.xls" TargetMode="External"/><Relationship Id="rId8" Type="http://schemas.openxmlformats.org/officeDocument/2006/relationships/image" Target="../media/image6.wmf"/><Relationship Id="rId9" Type="http://schemas.openxmlformats.org/officeDocument/2006/relationships/image" Target="../media/image7.gif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15000" y="2133720"/>
            <a:ext cx="2819520" cy="139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NOT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Los escritos de desistimiento deberán ser presentados conforme a las normas de la materia (artículo 130º del Código Tributario y en lo no contemplado expresamente en </a:t>
            </a:r>
            <a:r>
              <a:rPr b="0" lang="es-P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 citado artículo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se aplicará la Ley del Procedimiento Administrativo General, Ley N° 2744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E01194_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1447920" cy="85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62120" y="2006640"/>
            <a:ext cx="990360" cy="73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5176800"/>
            <a:ext cx="609480" cy="461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838080" y="4648320"/>
            <a:ext cx="1447920" cy="1089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438280" y="2286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Arial"/>
              </a:rPr>
              <a:t>Procedimiento – Ley N° 284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3048120"/>
            <a:ext cx="213372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De correspon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Presentación desistimien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- Intendencia de 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Tribunal Fis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Corte Supre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828800"/>
            <a:ext cx="2057400" cy="10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Pago autoliquid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Entidades bancari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Pago por ventani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Cargo en cuenta corr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Pag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762120" y="762120"/>
            <a:ext cx="1218960" cy="906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57400" y="914400"/>
            <a:ext cx="441972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Usuario presenta autoliquidación </a:t>
            </a:r>
            <a:r>
              <a:rPr b="0" lang="es-PE" sz="1200" spc="-1" strike="noStrike">
                <a:solidFill>
                  <a:srgbClr val="00cc99"/>
                </a:solidFill>
                <a:latin typeface="Arial"/>
              </a:rPr>
              <a:t>(</a:t>
            </a:r>
            <a:r>
              <a:rPr b="0" lang="es-PE" sz="12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Formato</a:t>
            </a:r>
            <a:r>
              <a:rPr b="0" lang="es-PE" sz="1200" spc="-1" strike="noStrike">
                <a:solidFill>
                  <a:srgbClr val="00cc9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Intendencia de Adu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74320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648320"/>
            <a:ext cx="380880" cy="304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62320" y="4267080"/>
            <a:ext cx="3276360" cy="16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Presentación comunic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(Trámite Documentari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Formalari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Formulario N° 1:</a:t>
            </a:r>
            <a:r>
              <a:rPr b="0" lang="es-PE" sz="12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Restitu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derechos arancel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Formulario N° 2: Transport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Formulario N° 3: Concesionarios pos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Copia autoliquidación cancel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Arial"/>
              </a:rPr>
              <a:t>Copia cargo desistimientos presen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41148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28600" y="112680"/>
            <a:ext cx="1533600" cy="42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952880" y="4191120"/>
            <a:ext cx="685800" cy="1447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3333cc"/>
                </a:solidFill>
                <a:latin typeface="Times New Roman"/>
              </a:rPr>
              <a:t>SUN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91320" y="4267080"/>
            <a:ext cx="38088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6629400" y="4114800"/>
            <a:ext cx="731880" cy="650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467480" y="4267080"/>
            <a:ext cx="1524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3333cc"/>
                </a:solidFill>
                <a:latin typeface="Times New Roman"/>
              </a:rPr>
              <a:t>Evaluación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3333cc"/>
                </a:solidFill>
                <a:latin typeface="Times New Roman"/>
              </a:rPr>
              <a:t>Notificación 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3333cc"/>
                </a:solidFill>
                <a:latin typeface="Times New Roman"/>
              </a:rPr>
              <a:t>Intere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0"/>
          <a:stretch/>
        </p:blipFill>
        <p:spPr>
          <a:xfrm>
            <a:off x="6019920" y="480060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14400" y="6162840"/>
            <a:ext cx="3200400" cy="5202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400" spc="-1" strike="noStrike">
                <a:solidFill>
                  <a:srgbClr val="ff0000"/>
                </a:solidFill>
                <a:latin typeface="Times New Roman"/>
              </a:rPr>
              <a:t>Plazo para comunicar el acogimiento a la SUNAT hasta el 23/03/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6172200"/>
            <a:ext cx="3200400" cy="520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ff00"/>
                </a:solidFill>
                <a:latin typeface="Arial Black"/>
              </a:rPr>
              <a:t>Contactos para consultas del acogimiento a la Ley 284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34:17Z</dcterms:created>
  <dc:creator>Víctor Pereda Reyes</dc:creator>
  <dc:description/>
  <dc:language>en-US</dc:language>
  <cp:lastModifiedBy>SUNAT</cp:lastModifiedBy>
  <dcterms:modified xsi:type="dcterms:W3CDTF">2005-02-23T19:47:05Z</dcterms:modified>
  <cp:revision>19</cp:revision>
  <dc:subject/>
  <dc:title>Presentación de PowerPoint</dc:title>
</cp:coreProperties>
</file>